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1971-AFB5-49A9-89F2-5C70BE1D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4649-5B1F-4365-AD50-AE4B3E93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995A-0E50-4842-AEF8-EFEA7528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5BC9-0A62-4FE4-A245-DC4FD176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B13-8534-46FA-A749-689FCB80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4049-954B-4F1F-875A-D716B10F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ED72-7F6A-477E-A9B3-6A41DF02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B1BE-F7B1-4C10-B4C5-069C8643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B59-DEE7-4D0B-BB1C-5DEC59B2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7843-F7BE-4D1D-A68B-B3FA6E0A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F634-61D5-4F06-8331-8596F61C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71C1-A241-4311-BF6D-4236983F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7461-27C5-485A-A1C6-EA2478773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4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801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8 de octubre del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960" y="1294920"/>
            <a:ext cx="8915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16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son tus amig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rite an original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using each of the following ver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ivir (to l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ner (to ha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cribir (to wr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render (to lear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os adjetivos posesivos</a:t>
            </a: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possesive adjectiv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ssessive ad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lls who owns or possess something.  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“Adjetivos posesivos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Spanish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i"/>
          <p:cNvPicPr/>
          <p:nvPr/>
        </p:nvPicPr>
        <p:blipFill>
          <a:blip r:embed="rId1"/>
          <a:stretch/>
        </p:blipFill>
        <p:spPr>
          <a:xfrm>
            <a:off x="0" y="2590920"/>
            <a:ext cx="167652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you-singular"/>
          <p:cNvPicPr/>
          <p:nvPr/>
        </p:nvPicPr>
        <p:blipFill>
          <a:blip r:embed="rId2"/>
          <a:stretch/>
        </p:blipFill>
        <p:spPr>
          <a:xfrm>
            <a:off x="0" y="3809880"/>
            <a:ext cx="1905120" cy="138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he"/>
          <p:cNvPicPr/>
          <p:nvPr/>
        </p:nvPicPr>
        <p:blipFill>
          <a:blip r:embed="rId3"/>
          <a:stretch/>
        </p:blipFill>
        <p:spPr>
          <a:xfrm>
            <a:off x="0" y="5337000"/>
            <a:ext cx="1981080" cy="1444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4"/>
          <a:stretch/>
        </p:blipFill>
        <p:spPr>
          <a:xfrm>
            <a:off x="4114800" y="2666880"/>
            <a:ext cx="2438280" cy="177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5"/>
          <a:stretch/>
        </p:blipFill>
        <p:spPr>
          <a:xfrm>
            <a:off x="4267080" y="4952880"/>
            <a:ext cx="1905120" cy="13845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2"/>
          <p:cNvSpPr/>
          <p:nvPr/>
        </p:nvSpPr>
        <p:spPr>
          <a:xfrm>
            <a:off x="1296360" y="320040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1525320" y="441972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1982880" y="5181480"/>
            <a:ext cx="197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poli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5868000" y="335268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5945760" y="5364000"/>
            <a:ext cx="119124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pol. pl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2059200" y="3200400"/>
            <a:ext cx="6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2665080" y="320040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/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2588760" y="44496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3142440" y="444960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/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2745000" y="56386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3353760" y="56386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/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6781680" y="3048120"/>
            <a:ext cx="19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uestro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6781680" y="3611520"/>
            <a:ext cx="19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uestra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7313760" y="574524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7922880" y="574524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/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______ moch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______ cuader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______ per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______ blu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"/>
          <p:cNvPicPr/>
          <p:nvPr/>
        </p:nvPicPr>
        <p:blipFill>
          <a:blip r:embed="rId1"/>
          <a:stretch/>
        </p:blipFill>
        <p:spPr>
          <a:xfrm>
            <a:off x="1447920" y="1295280"/>
            <a:ext cx="1676160" cy="1371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you-singular"/>
          <p:cNvPicPr/>
          <p:nvPr/>
        </p:nvPicPr>
        <p:blipFill>
          <a:blip r:embed="rId2"/>
          <a:stretch/>
        </p:blipFill>
        <p:spPr>
          <a:xfrm>
            <a:off x="1295280" y="3657600"/>
            <a:ext cx="190512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8394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292320" indent="-2923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ssessive ad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only two forms– Singular and Plural. The adjectiv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refer to many different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2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2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2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 lib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_____ c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 zapa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_____ c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he"/>
          <p:cNvPicPr/>
          <p:nvPr/>
        </p:nvPicPr>
        <p:blipFill>
          <a:blip r:embed="rId1"/>
          <a:stretch/>
        </p:blipFill>
        <p:spPr>
          <a:xfrm>
            <a:off x="1371600" y="2281320"/>
            <a:ext cx="2514600" cy="1833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5181480" y="2139840"/>
            <a:ext cx="2438640" cy="1773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1753920" y="399240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663560" y="452592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5792400" y="399240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5702040" y="452592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609480" y="228600"/>
            <a:ext cx="82296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ssessive ad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Nuest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ike any other adjective that ends in –O has 4 form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 carro             ______ fam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 carros          _______ familia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3353040" cy="2435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3352680" cy="24368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1178280" y="4602240"/>
            <a:ext cx="17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1067040" y="5135400"/>
            <a:ext cx="19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5182200" y="460224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5029920" y="513540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completa la oración con el 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Adjetivo Posesivo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rrec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i"/>
          <p:cNvPicPr/>
          <p:nvPr/>
        </p:nvPicPr>
        <p:blipFill>
          <a:blip r:embed="rId1"/>
          <a:stretch/>
        </p:blipFill>
        <p:spPr>
          <a:xfrm>
            <a:off x="990720" y="1981080"/>
            <a:ext cx="1676160" cy="13716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3276720" y="2666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 _______ ju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you-singular"/>
          <p:cNvPicPr/>
          <p:nvPr/>
        </p:nvPicPr>
        <p:blipFill>
          <a:blip r:embed="rId2"/>
          <a:stretch/>
        </p:blipFill>
        <p:spPr>
          <a:xfrm>
            <a:off x="914400" y="3429000"/>
            <a:ext cx="1905120" cy="1386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3276720" y="3809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 _______ lib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he"/>
          <p:cNvPicPr/>
          <p:nvPr/>
        </p:nvPicPr>
        <p:blipFill>
          <a:blip r:embed="rId3"/>
          <a:stretch/>
        </p:blipFill>
        <p:spPr>
          <a:xfrm>
            <a:off x="914400" y="4876920"/>
            <a:ext cx="1981080" cy="1444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3124080" y="54864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 _______ car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152280" y="763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Arial"/>
              </a:rPr>
              <a:t>Practic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7" descr="http://www.clker.com/cliparts/X/7/X/o/7/x/orange-juice-md.png"/>
          <p:cNvPicPr/>
          <p:nvPr/>
        </p:nvPicPr>
        <p:blipFill>
          <a:blip r:embed="rId4"/>
          <a:stretch/>
        </p:blipFill>
        <p:spPr>
          <a:xfrm>
            <a:off x="6210360" y="1828800"/>
            <a:ext cx="1638360" cy="1523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9" descr="http://images.clipartpanda.com/closed-book-clip-art-9izxdG9iE.gif"/>
          <p:cNvPicPr/>
          <p:nvPr/>
        </p:nvPicPr>
        <p:blipFill>
          <a:blip r:embed="rId5"/>
          <a:stretch/>
        </p:blipFill>
        <p:spPr>
          <a:xfrm>
            <a:off x="6248520" y="3502080"/>
            <a:ext cx="1298520" cy="1298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1" descr="https://encrypted-tbn3.gstatic.com/images?q=tbn:ANd9GcTetbrbCQUCH1gWW3ElQh2eoByXlBTps65gE3-Z21GbAb-Ug2790w"/>
          <p:cNvPicPr/>
          <p:nvPr/>
        </p:nvPicPr>
        <p:blipFill>
          <a:blip r:embed="rId6"/>
          <a:stretch/>
        </p:blipFill>
        <p:spPr>
          <a:xfrm>
            <a:off x="6095880" y="5094360"/>
            <a:ext cx="266724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2362320" cy="17161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3505320" y="13716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 ________ manz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2438280" cy="17715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3200400" y="3048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 ________ ave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i"/>
          <p:cNvPicPr/>
          <p:nvPr/>
        </p:nvPicPr>
        <p:blipFill>
          <a:blip r:embed="rId3"/>
          <a:stretch/>
        </p:blipFill>
        <p:spPr>
          <a:xfrm>
            <a:off x="1066680" y="4267080"/>
            <a:ext cx="2286000" cy="17528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0"/>
          <p:cNvSpPr/>
          <p:nvPr/>
        </p:nvSpPr>
        <p:spPr>
          <a:xfrm>
            <a:off x="2743200" y="51055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n_________waf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5" descr="https://encrypted-tbn1.gstatic.com/images?q=tbn:ANd9GcRXMuQ7KeYRrgGv-JziCzqFF0bcG-9X_Bf5l63goubsUMgDmryqhNPFscQ"/>
          <p:cNvPicPr/>
          <p:nvPr/>
        </p:nvPicPr>
        <p:blipFill>
          <a:blip r:embed="rId4"/>
          <a:stretch/>
        </p:blipFill>
        <p:spPr>
          <a:xfrm>
            <a:off x="7508880" y="507960"/>
            <a:ext cx="1353960" cy="1422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http://www.foodshapes.com/oatmeal.jpg"/>
          <p:cNvPicPr/>
          <p:nvPr/>
        </p:nvPicPr>
        <p:blipFill>
          <a:blip r:embed="rId5"/>
          <a:stretch/>
        </p:blipFill>
        <p:spPr>
          <a:xfrm>
            <a:off x="6467400" y="2319480"/>
            <a:ext cx="1542960" cy="1857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9" descr="http://thumbs.dreamstime.com/x/morning-waffles-15657779.jpg"/>
          <p:cNvPicPr/>
          <p:nvPr/>
        </p:nvPicPr>
        <p:blipFill>
          <a:blip r:embed="rId6"/>
          <a:stretch/>
        </p:blipFill>
        <p:spPr>
          <a:xfrm>
            <a:off x="6635880" y="4800600"/>
            <a:ext cx="190476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you-singular"/>
          <p:cNvPicPr/>
          <p:nvPr/>
        </p:nvPicPr>
        <p:blipFill>
          <a:blip r:embed="rId1"/>
          <a:stretch/>
        </p:blipFill>
        <p:spPr>
          <a:xfrm>
            <a:off x="533520" y="533520"/>
            <a:ext cx="1981080" cy="1441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he"/>
          <p:cNvPicPr/>
          <p:nvPr/>
        </p:nvPicPr>
        <p:blipFill>
          <a:blip r:embed="rId2"/>
          <a:stretch/>
        </p:blipFill>
        <p:spPr>
          <a:xfrm>
            <a:off x="457200" y="2286000"/>
            <a:ext cx="2286000" cy="1666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3"/>
          <a:stretch/>
        </p:blipFill>
        <p:spPr>
          <a:xfrm>
            <a:off x="533520" y="4343400"/>
            <a:ext cx="2286000" cy="1660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0"/>
          <p:cNvSpPr/>
          <p:nvPr/>
        </p:nvSpPr>
        <p:spPr>
          <a:xfrm>
            <a:off x="2895480" y="1295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n ____ zap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3048120" y="32004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n ____ amig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2133720" y="50292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n ________ bicicle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7" descr="http://t1.gstatic.com/images?q=tbn:ANd9GcTtq5xIRbIOPxY8kat2wwGD_j6z141rlIT-gPM5BTCCRGYzuMnmpw"/>
          <p:cNvPicPr/>
          <p:nvPr/>
        </p:nvPicPr>
        <p:blipFill>
          <a:blip r:embed="rId4"/>
          <a:stretch/>
        </p:blipFill>
        <p:spPr>
          <a:xfrm>
            <a:off x="6227640" y="146160"/>
            <a:ext cx="1946520" cy="1946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http://www.clipartbest.com/cliparts/niE/5Bp/niE5Bp6iA.jpeg"/>
          <p:cNvPicPr/>
          <p:nvPr/>
        </p:nvPicPr>
        <p:blipFill>
          <a:blip r:embed="rId5"/>
          <a:stretch/>
        </p:blipFill>
        <p:spPr>
          <a:xfrm>
            <a:off x="6505560" y="2265480"/>
            <a:ext cx="1924200" cy="1800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3" descr="http://cdn-7.freeclipartnow.com/d/42307-2/bicycle-5.jpg"/>
          <p:cNvPicPr/>
          <p:nvPr/>
        </p:nvPicPr>
        <p:blipFill>
          <a:blip r:embed="rId6"/>
          <a:stretch/>
        </p:blipFill>
        <p:spPr>
          <a:xfrm>
            <a:off x="7543800" y="5524560"/>
            <a:ext cx="1447920" cy="1333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5" descr="http://cdn-7.freeclipartnow.com/d/42307-2/bicycle-5.jpg"/>
          <p:cNvPicPr/>
          <p:nvPr/>
        </p:nvPicPr>
        <p:blipFill>
          <a:blip r:embed="rId7"/>
          <a:stretch/>
        </p:blipFill>
        <p:spPr>
          <a:xfrm>
            <a:off x="6354720" y="4506840"/>
            <a:ext cx="14479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LOS ADJETIVOS POSE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01:05:40Z</dcterms:created>
  <dc:creator>Helen Zumaeta</dc:creator>
  <dc:description/>
  <dc:language>en-US</dc:language>
  <cp:lastModifiedBy>Helen Zumaeta</cp:lastModifiedBy>
  <cp:lastPrinted>2014-10-08T20:02:48Z</cp:lastPrinted>
  <dcterms:modified xsi:type="dcterms:W3CDTF">2014-10-08T20:09:19Z</dcterms:modified>
  <cp:revision>16</cp:revision>
  <dc:subject/>
  <dc:title>Me llamo _________ Clase 6nh/il La fecha es el 24 de marzo del 2011</dc:title>
</cp:coreProperties>
</file>